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82C-032C-4D3A-8F1C-129DE1E4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9F7-EEEC-4141-A62E-6158BB0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063-AB1B-4BD5-8F32-876C806A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015-5B6E-4CBA-B8BB-530B1BFE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862-325D-4DBB-ACCB-FCC4F80F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A8C-F300-435F-B8BF-5D7D7CA1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E01-C9B8-46C0-8A38-A3E9F647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87F-A537-4B59-9E75-2F32959A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B76-FAD2-420A-8B06-CB25239D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428-BBCF-4331-9A90-2D406BE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A67-02D6-4A25-AA96-236A796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D4A-55C6-4230-A874-6D2CCABC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77C6-59A3-46C8-91C1-B7E3655F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50state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50states.com/bird/mtblue.htm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ostcardsfrom.com/t1/981030.html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81030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7480" y="5116680"/>
            <a:ext cx="1676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anna Ryan October 1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#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144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Ida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533412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ho Song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pital City: B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ntered Union: 4/3/1890 #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tto: Esto perpetua (Let it be perpe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ickname: Gem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lower: Syr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Bird: Mountain Blu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ong: Here we have Ida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ame’s meaning: Gem of the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ree: White 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ems: Garnet, Opal, Agate, Obsidian, Sapp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opulation: 1,567,5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Arctic Blue-Bird"/>
          <p:cNvPicPr/>
          <p:nvPr/>
        </p:nvPicPr>
        <p:blipFill>
          <a:blip r:embed="rId1"/>
          <a:stretch/>
        </p:blipFill>
        <p:spPr>
          <a:xfrm>
            <a:off x="685800" y="1676520"/>
            <a:ext cx="234648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84344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states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rds of America: The Arctic Blue-Bi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October 24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bird/mtblu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33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ountain Bluebird, the state bird of Idaho and Ne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ll images Copyright © 1997 - 2000 WriteLine. All Rights Reserved. marble columns of rotunda"/>
          <p:cNvPicPr/>
          <p:nvPr/>
        </p:nvPicPr>
        <p:blipFill>
          <a:blip r:embed="rId3"/>
          <a:stretch/>
        </p:blipFill>
        <p:spPr>
          <a:xfrm>
            <a:off x="464832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1219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apitol building in Boise, Ida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10552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of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t1/98103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Devils Orch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ll images Copyright © 1997 - 2000 WriteLine. All Rights Reserved. Volcanic rocks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8039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of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103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0:56Z</dcterms:created>
  <dc:creator>install</dc:creator>
  <dc:description/>
  <dc:language>en-US</dc:language>
  <cp:lastModifiedBy>install</cp:lastModifiedBy>
  <dcterms:modified xsi:type="dcterms:W3CDTF">2011-10-27T13:38:07Z</dcterms:modified>
  <cp:revision>7</cp:revision>
  <dc:subject/>
  <dc:title>Slide 1</dc:title>
</cp:coreProperties>
</file>